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C4F-2D56-4C15-8A5E-C920E858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A94-1B7E-44F4-83B0-C26D65D4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5A0-0AD6-426D-B5F9-19ECA1C4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007-7E15-452D-A5ED-F5A16680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77D6-3C1D-4A0B-A64C-E766E712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F1DE-D37E-4070-A078-9118460B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C1E9-B003-4960-B1EF-F5660B03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7E23-77E1-4BEE-9EC1-1B340C54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6250-EF1C-4226-8933-EE791601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1FA8-541D-42AD-8AD1-B5EB78C8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0A9D-7860-43B0-B548-AD3DABE1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EBFD-2D96-41D9-9E6E-96322C32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EF8B-38A2-42D6-9238-1F4E7E1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9D63-17C0-4757-A6F3-C3DCE79D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EDC2-39B9-425E-81D8-ADA57805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9DCD-631F-4F8E-B0EF-5B5646FD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303D-153B-49DE-AB2B-89C302F8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425-6FEC-4413-B909-756A1D3A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FE8-6CE7-49DC-B2D1-86477675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014-9DB2-44C5-BCB7-99431EE0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AED-A99B-49AC-A87C-16028543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8EC-DCC8-4001-8A1C-3F79F0DE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49F-27CA-4C90-8049-958CBA0B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918-99B5-4240-9118-D18DF82D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910F-79E2-48C1-973E-44B01C18DDA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D28E-DBB9-4410-89F9-9E02F561BC1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63280" y="1628280"/>
            <a:ext cx="5761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mpeten</a:t>
            </a:r>
            <a:r>
              <a:rPr b="0" lang="ro-RO" sz="4800" spc="-1" strike="noStrike">
                <a:solidFill>
                  <a:srgbClr val="99ccff"/>
                </a:solidFill>
                <a:latin typeface="Arial"/>
              </a:rPr>
              <a:t>țe digital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"/>
              </a:rPr>
              <a:t>Bacalaureat 2010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a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Pentru a afla informații cu privire la desfășurarea examenului de bacalaureat, accesați site-ul Ministerului Educație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Rezultate parți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5760" y="2060640"/>
          <a:ext cx="8226360" cy="4035240"/>
        </p:xfrm>
        <a:graphic>
          <a:graphicData uri="http://schemas.openxmlformats.org/drawingml/2006/table">
            <a:tbl>
              <a:tblPr/>
              <a:tblGrid>
                <a:gridCol w="4113000"/>
                <a:gridCol w="4113360"/>
              </a:tblGrid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umele și prenume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unctaj obținu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p Mari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6 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rian Victori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3 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untean Emi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8 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asile Danie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5 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0:38:49Z</dcterms:created>
  <dc:creator>AS</dc:creator>
  <dc:description/>
  <dc:language>en-US</dc:language>
  <cp:lastModifiedBy>AS</cp:lastModifiedBy>
  <dcterms:modified xsi:type="dcterms:W3CDTF">2010-01-06T21:04:36Z</dcterms:modified>
  <cp:revision>7</cp:revision>
  <dc:subject/>
  <dc:title>Diapozitivul 1</dc:title>
</cp:coreProperties>
</file>